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274-0F0B-426B-9575-C3078271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0DD-79D1-4968-96E1-4E610082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A14-35C8-46BD-893D-EC0509DA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BBE-7FE1-428E-8557-89C8E92F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E5F-FE80-42C3-BD1D-3450F0DB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156-F398-4C68-9FB3-DB83DFB3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5A6-F0A9-4BD9-ABAE-A14665C3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DFE-3C3E-4676-9875-EE8493D6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62E-90FA-41DE-8174-FFFBF26B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3E2-9BFA-4B5A-8E8C-F12D3C03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E6B-AE67-4818-9294-A0E3AFF8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1B1-68D2-40EE-BC21-77C22FA4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C2B9-2D31-4311-9A1B-4AC495CCF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bels.uoregon.edu/measures/" TargetMode="External"/><Relationship Id="rId2" Type="http://schemas.openxmlformats.org/officeDocument/2006/relationships/hyperlink" Target="https://dibels.uoregon.edu/measures/" TargetMode="External"/><Relationship Id="rId3" Type="http://schemas.openxmlformats.org/officeDocument/2006/relationships/hyperlink" Target="https://dibels.uoregon.edu/measures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BELS Manuals &amp;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on and Sc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Materials-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Monitoring Materials-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a DIBELS Account online at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bels.uoregon.edu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measur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0" descr="dibels download 1.gif"/>
          <p:cNvPicPr/>
          <p:nvPr/>
        </p:nvPicPr>
        <p:blipFill>
          <a:blip r:embed="rId4"/>
          <a:stretch/>
        </p:blipFill>
        <p:spPr>
          <a:xfrm>
            <a:off x="609480" y="1523880"/>
            <a:ext cx="8382240" cy="509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3244800">
            <a:off x="4114800" y="4114440"/>
            <a:ext cx="6062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-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857240"/>
            <a:ext cx="69339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1400"/>
            <a:ext cx="7620120" cy="681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58000" y="35053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029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60660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 Man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Benchmark and Progress Monitoring Materials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Revised (June 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4952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384800">
            <a:off x="188640" y="5144760"/>
            <a:ext cx="838080" cy="606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048120" y="4648320"/>
            <a:ext cx="6062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Booklet Is a Separate File Which Can Be Sa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18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6:41:37Z</dcterms:created>
  <dc:creator>office</dc:creator>
  <dc:description/>
  <dc:language>en-US</dc:language>
  <cp:lastModifiedBy>office</cp:lastModifiedBy>
  <dcterms:modified xsi:type="dcterms:W3CDTF">2010-08-13T16:58:22Z</dcterms:modified>
  <cp:revision>2</cp:revision>
  <dc:subject/>
  <dc:title>Slide 1</dc:title>
</cp:coreProperties>
</file>